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1AF-9825-4A71-B16B-8B57A957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7A1-26BD-4619-ADCD-32105A92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FDF-DBBA-4270-B658-97B88E7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DC8-C10E-499A-9E83-84DB53D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AF6-B6F5-4879-8A41-09C3DE8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00E-EE58-4B13-95BE-5AD7CCF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5C-40F2-497E-B039-1933793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CCA-05BE-4D75-B570-46D5A3D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5E4-ACD3-475E-9ACB-5701550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6CA-B9F9-4444-B584-0370071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B71-E4F1-4E35-8478-D151F75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203-BE4E-48D5-91A3-E9676FC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14D2-DDD3-4004-8E02-1DA25218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 to tak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b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chec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322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star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glar.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to s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819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: some one who tells a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onyms wri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onyms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llable str .y .t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word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ection 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8680" y="19810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full of strong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exi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to tak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l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8-10-31T17:10:40Z</dcterms:modified>
  <cp:revision>4</cp:revision>
  <dc:subject/>
  <dc:title>PowerPoint Presentation</dc:title>
</cp:coreProperties>
</file>